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ECFF-485B-4EB1-B2BB-048BE0EB96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137E-15F9-446A-B7DC-6182B4F33B5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82F3-F7A2-411C-AA3D-F2ADB8AA82D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415C-43EF-43CA-A632-254547E0557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59A3-F1B8-4555-AD8C-3D3A236D9C5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243B-91EE-4E2B-AFD2-FBD87D9414A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FD23-CDA7-43FA-8D71-C593F304933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4A9E-9DA8-4CFD-A656-6BDAAB3C3E2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9BEF-2D9B-4720-8EF0-508DAC45C50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55A0-084D-4324-83A1-2C948D4C7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6ED5-6AF8-4B11-BF88-D8C981BD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DB21-CA5F-45CB-8A4F-24166E0C6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48B5-B8DC-45E7-8865-3D957C5B3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12C6-A2B2-4956-AA1E-ABF7880FE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518F-EB3E-4843-9B90-F903F2DC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40B1-3F81-4B43-A973-BC758452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83CF-08D1-4F69-88B5-A6A25AE1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E48A-E1A0-42B8-8DBB-F957AF18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05CC-E86E-4ABC-9900-9A67C363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7517-2ACE-4925-A805-CE6FC495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A276-E7F5-4BDD-AE6B-9C4BC833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72BE-66FB-4F5D-B416-BE40F8B1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E699-06DC-4EC7-8F94-39E3970F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6E6C-A4D3-4F03-8C8E-8024B81F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9501B-6A79-482B-B8E4-707EF4064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15079-F43F-4FA9-8D00-A458AF23C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847D-505F-47F8-B4C0-1528F5AD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4BFC-5073-42A4-B378-33DF778C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B959-FE42-483E-97F5-7148ECE1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4D40-F9C1-4C52-AA21-5B12CDB9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3A6A-DECB-4BD4-9EE5-7C4331B4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B878-CEA5-4B7E-ABFB-2BC3C193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9858-BA3B-4F77-B4AE-275B5A49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EF42-1BB6-41C5-8257-04CBDDFC3C2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2433-8E8A-41ED-A3FD-EF0BD16FBC3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v.proskurovska@ebf-fbe.eu" TargetMode="External"/><Relationship Id="rId2" Type="http://schemas.openxmlformats.org/officeDocument/2006/relationships/hyperlink" Target="http://www.ebf-fbe.eu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European Banking Sector</a:t>
            </a:r>
            <a:br>
              <a:rPr sz="2800"/>
            </a:b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n a period of Global Financial and Economic Crisi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429080"/>
            <a:ext cx="640080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cc"/>
                </a:solidFill>
                <a:latin typeface="Times New Roman"/>
              </a:rPr>
              <a:t>Viktorija Proskurovska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cc"/>
                </a:solidFill>
                <a:latin typeface="Times New Roman"/>
              </a:rPr>
              <a:t>Adviser, Economic and Monetary Affairs and Relations with Associates of the European Banking Federation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214800" y="285840"/>
            <a:ext cx="550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cad"/>
                </a:solidFill>
                <a:latin typeface="Arial"/>
              </a:rPr>
              <a:t>10</a:t>
            </a:r>
            <a:r>
              <a:rPr b="1" lang="en-GB" sz="1800" spc="-1" strike="noStrike" baseline="30000">
                <a:solidFill>
                  <a:srgbClr val="005cad"/>
                </a:solidFill>
                <a:latin typeface="Arial"/>
              </a:rPr>
              <a:t>th</a:t>
            </a:r>
            <a:r>
              <a:rPr b="1" lang="en-GB" sz="1800" spc="-1" strike="noStrike">
                <a:solidFill>
                  <a:srgbClr val="005cad"/>
                </a:solidFill>
                <a:latin typeface="Arial"/>
              </a:rPr>
              <a:t> Inter-Balkan Forum of Banking Association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5cad"/>
                </a:solidFill>
                <a:latin typeface="Arial"/>
              </a:rPr>
              <a:t>16 October 2009 - Sarajevo, Bosnia &amp; Herzegovina</a:t>
            </a:r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49AD-7FE0-4527-BB9B-EC5F55018DA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ignificance of the crisi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vaporation of liquidity in the inter-banking market;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ankruptcies of financial giants, causing systemic risk;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Loss of public trust in the financial sector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eterioration in general economic condition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crease of the government share in the private sector (causing unlevel playing field).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66cc"/>
                </a:solidFill>
                <a:latin typeface="Times New Roman"/>
              </a:rPr>
              <a:t>Global estimated loss</a:t>
            </a:r>
            <a:r>
              <a:rPr b="0" lang="fr-FR" sz="2500" spc="-1" strike="noStrike">
                <a:solidFill>
                  <a:srgbClr val="0066cc"/>
                </a:solidFill>
                <a:latin typeface="Times New Roman"/>
              </a:rPr>
              <a:t>: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USD 3.4 trillion (about € 2.3 trillion)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 GDP might fall by 4% in 2009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US GDP may decrease 2.6% in 2009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action of bank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flect on their weakness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duce their costs and improve return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lean-up their balance sheet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dapt their business strategie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4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271B-1042-4920-AA78-EC63DC2799B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action of the ECB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and national government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More liquidity and capital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ro-area Governments committed about 35% of GDP to financial sector support measur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rosystem’s balance sheet had almost doubled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Negative consequence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creased public ownership in the EU banking sector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0D0D-C92D-4064-8669-530054A3693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gulatory response by the European Commiss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 Commission is working on the body of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legislation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on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supervisory architecture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apital requirement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ccounting principl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muneration polici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hedge funds, UCITS, etc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Aim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o ensure the right incentives, reduce gold-plating, and strengthen risk management and prudential oversight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D0BD-428D-49DF-9C08-F1CC98B0B62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The EURO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Benefit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of euro membership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confidence in the currency (avoid sharp devaluation during crisis)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ECB measures to enhance market liquidity enabled euro area countries to avoid a credit squeeze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Challenge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Differences in the pricing of euro member countries’ debt and credit default insurance have widened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4BCB-A64E-474F-A950-A75355556A3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nclus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urrent EU-level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prioritie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are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Need for effective </a:t>
            </a: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government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exit strategies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ECB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continue facilitating the working of financial markets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EU authorities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finalise their proposal for the Regulation on banking supervision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banks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continue their operations while reforming internal procedures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9715-E2C0-4539-8F3B-68A008D6BE9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Thank you!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For contacts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Viktorija Proskurovska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Adviser in Economic and Monetary Affairs, Associates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European Banking Federation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v.proskurovska@ebf-fbe.eu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ebf-fbe.eu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4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7491-F3D3-4C6B-9074-2DC929CB40F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09:21:47Z</dcterms:created>
  <dc:creator>Viktorija Proskurovska</dc:creator>
  <dc:description/>
  <dc:language>en-US</dc:language>
  <cp:lastModifiedBy>Viktorija Proskurovska</cp:lastModifiedBy>
  <dcterms:modified xsi:type="dcterms:W3CDTF">2009-10-09T13:05:37Z</dcterms:modified>
  <cp:revision>16</cp:revision>
  <dc:subject/>
  <dc:title>Европейский банковский сектор  в период глобального финансово-экономического кризиса</dc:title>
</cp:coreProperties>
</file>